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D38-846B-460E-993A-BF199C04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10F5-7CAC-45A7-96EA-4C816B4E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D9F-97C8-4588-853E-57789722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07E-A3A8-4AF1-8C47-1BD03959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8F56-94D0-4A99-A4FB-CB416069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D13F-0430-4492-8F5E-E54ABFD6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75C1-24D6-4BFB-B765-766B15C2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EA90-6483-4832-91AD-54498189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8C0F-2C1A-448B-98CC-29E0BF0D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1426-E197-4293-8B1D-69B7B9ED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D212-05D4-448B-8209-EA6783E0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755-FE28-4F28-841E-70A2B957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F636-4BA3-42F6-AFD2-649F809A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AD19-E400-49F3-A2DE-DAA1D1BD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8D74-6D13-450A-AABD-2AB6D6F8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48F7-0C6F-4A88-A58F-C92DEE13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57B1-83E1-4CD8-9C1A-0CD3F75A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A72-B6AD-413F-BC5D-89E7C9FD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672-3811-401C-AF1F-09D90D9E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5D4-F8D2-42A5-84F6-2E1DC557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75B-DC2B-4846-B342-A2F0F07C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0CF-32AE-4A33-B69A-C8E0A4AE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83F-30C6-44B0-9B1D-A7CBFF2D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EBE-834F-42D1-B799-5D10A64C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A4B6-ADC0-440E-8941-0972C9E42C9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3366-AA7A-4668-9C97-4EC6F837003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4479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under Ros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33160" y="41144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 1 Week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THUNDER ROSE"/>
          <p:cNvPicPr/>
          <p:nvPr/>
        </p:nvPicPr>
        <p:blipFill>
          <a:blip r:embed="rId1"/>
          <a:stretch/>
        </p:blipFill>
        <p:spPr>
          <a:xfrm>
            <a:off x="6095880" y="457200"/>
            <a:ext cx="2700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 act of laying waste; destruct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533520"/>
            <a:ext cx="396252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352680" y="2362320"/>
            <a:ext cx="5029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ut together; fitted together;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uil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609480"/>
            <a:ext cx="403848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looked like the construction worker p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itc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wn in the pot ho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733920"/>
            <a:ext cx="2210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know the difference between arteries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vei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ubes in the body that carry bloo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scles in the legs and arm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657600"/>
            <a:ext cx="8076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llet dancer circ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ainti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ound the flow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vingl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cefull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45720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broth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stru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lego c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lanned fo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038480"/>
            <a:ext cx="3505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wboy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rand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cattle to identify the correct own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gister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rk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4343400"/>
            <a:ext cx="2666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heriff put up wanted posters in order to catch the those people who w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iev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ailbir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aling someone’s proper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4495680"/>
            <a:ext cx="6248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vast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used by the hurricane took months for the clean up crews to mana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ctivit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stru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4876920"/>
            <a:ext cx="3581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sang a swe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ullab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the newbor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di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ft so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3962520"/>
            <a:ext cx="2667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219320"/>
            <a:ext cx="358164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209680"/>
            <a:ext cx="396216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3429000"/>
            <a:ext cx="358164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800600"/>
            <a:ext cx="396252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1219320"/>
            <a:ext cx="373356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2286000"/>
            <a:ext cx="358128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3276720"/>
            <a:ext cx="4038480" cy="99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4419720"/>
            <a:ext cx="373392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5638680"/>
            <a:ext cx="327672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dy came up with the plan for utilizing the new t-shirts, we knew he was the mo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sourcefu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 our tea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ick-witt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umbfound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267080"/>
            <a:ext cx="3124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ong for singing to a child; soft so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335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ood at thinking of ways to do things; quick witt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762120"/>
            <a:ext cx="403884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00040" y="2362320"/>
            <a:ext cx="5181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arked by burning the skin with a hot ir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68580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971800" y="23623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ith delicate beauty; freshly and prettil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657240" y="23623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thick, black, sticky substance made from tar or turpentin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457200"/>
            <a:ext cx="37335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aling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embranous tubes forming part of the system of vessels that carry blood to the hear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Jefferson County BoE</cp:lastModifiedBy>
  <dcterms:modified xsi:type="dcterms:W3CDTF">2008-07-03T06:15:10Z</dcterms:modified>
  <cp:revision>8</cp:revision>
  <dc:subject/>
  <dc:title>Frindle Vocabulary Words</dc:title>
</cp:coreProperties>
</file>